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9D9-641B-484F-8663-BDF6E282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7CB-B4B9-4F13-AC5B-75F9F952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035-BAC0-47F0-A951-BFF4F8CC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C2A-1BEF-49A4-8D53-E4B07022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907-E5E2-44CC-9C9C-82E8D5FC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DF9-242A-41DB-9C65-0B6F8EB5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679-235E-4D60-A1CA-E8005E86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6B0-7969-4245-A7A9-D6D628A8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7F4-8E9D-496B-BC18-FE11AB74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EF5-ED0F-4AF4-8122-B09859E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73B-81E7-456B-ADB2-2D9CE5B3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B0A-20D8-475C-AFFB-94A64C6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CF9E-DA45-4454-92E2-A561E3A2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 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2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pras en la papele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n la tienda de rop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R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¿ 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R12 (1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e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s una palabra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l secre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verb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español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termina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AR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ER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-IR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tienen que ser una palabra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All verbs in Spanish end in –ar, -er, or –ir and have to be an action 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AR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ER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    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5181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181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57913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La conju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ju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ifica cambiar el verbo del INFINITIVO para poder usa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conjugat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eans to change the verb from the INFINITIVE in order to use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or ejemplo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 puede decir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ía 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habl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decir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ía </a:t>
            </a:r>
            <a:r>
              <a:rPr b="1" lang="es-ES_tradnl" sz="2800" spc="-1" strike="noStrike" u="sng">
                <a:solidFill>
                  <a:srgbClr val="cc00cc"/>
                </a:solidFill>
                <a:uFillTx/>
                <a:latin typeface="Arial"/>
              </a:rPr>
              <a:t>habla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í el verbo HABLAR ha sido conjugado; porque para poder usar el verbo, se lo debe conjugar.</a:t>
            </a: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he verb “to speak” has been conjugated; in order for the verb to be used, it must be conjug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3480" y="3473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¡N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7880" y="41911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cc"/>
                </a:solidFill>
                <a:latin typeface="Arial"/>
              </a:rPr>
              <a:t>¡Si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63240" y="256536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ste verbo 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n el INFI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648320" y="297144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Primera conjug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llama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primera conjug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uando los verbos que terminan en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on conjugados en el presen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he First Conjugation is when verbs that end in –AR are conjugated in the present te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00cc"/>
                </a:solidFill>
                <a:uFillTx/>
                <a:latin typeface="Arial"/>
              </a:rPr>
              <a:t>¡El 90% de todos los verbos en español terminan en –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90% of all Spanish verbs end in –AR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R6-R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24:16Z</dcterms:created>
  <dc:creator>Helen Zumaeta</dc:creator>
  <dc:description/>
  <dc:language>en-US</dc:language>
  <cp:lastModifiedBy>Helen Zumaeta</cp:lastModifiedBy>
  <dcterms:modified xsi:type="dcterms:W3CDTF">2012-10-22T13:24:34Z</dcterms:modified>
  <cp:revision>1</cp:revision>
  <dc:subject/>
  <dc:title>Me llamo ________ Clase 6NH (602) La fecha es el 22 de octubre del 2012</dc:title>
</cp:coreProperties>
</file>